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518112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22433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822433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518112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DCCE1-EC9D-4460-85DD-80A80F89A9FB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B1478-860F-4689-8754-F7AE5C792AAA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CAF81-3744-4BA7-99F5-FEFCEF4E7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15640" y="409680"/>
            <a:ext cx="75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224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15640" y="1752480"/>
            <a:ext cx="7559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15640" y="3902040"/>
            <a:ext cx="7559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B0038-CC3D-4D35-99E5-193FBAE5D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15640" y="409680"/>
            <a:ext cx="75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2243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15640" y="1752480"/>
            <a:ext cx="36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989240" y="1752480"/>
            <a:ext cx="36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15640" y="3902040"/>
            <a:ext cx="36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989240" y="3902040"/>
            <a:ext cx="36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C7D6F-E399-400D-B030-E55EF95CB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15640" y="409680"/>
            <a:ext cx="75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22433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15640" y="1752480"/>
            <a:ext cx="2433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671640" y="1752480"/>
            <a:ext cx="2433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227640" y="1752480"/>
            <a:ext cx="2433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15640" y="3902040"/>
            <a:ext cx="2433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671640" y="3902040"/>
            <a:ext cx="2433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227640" y="3902040"/>
            <a:ext cx="2433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E6D91-56F8-40C7-B78D-CF46FBB03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15640" y="409680"/>
            <a:ext cx="75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22433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15640" y="1752480"/>
            <a:ext cx="7559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23F79-5174-4452-A150-C36B3151C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15640" y="409680"/>
            <a:ext cx="75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22433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15640" y="1752480"/>
            <a:ext cx="7559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A2368-2C09-47C8-BAAB-76AE44CC1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15640" y="409680"/>
            <a:ext cx="75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22433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15640" y="1752480"/>
            <a:ext cx="3688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989240" y="1752480"/>
            <a:ext cx="3688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77DB7-EB8D-4FFC-9CB1-53D44BB7F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15640" y="409680"/>
            <a:ext cx="75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224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20E3C-AA2D-40B5-B5D9-965E530BA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115640" y="409680"/>
            <a:ext cx="755964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EEA83-D64B-4B18-8625-CFC64C202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15640" y="409680"/>
            <a:ext cx="75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22433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15640" y="1752480"/>
            <a:ext cx="36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89240" y="1752480"/>
            <a:ext cx="3688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15640" y="3902040"/>
            <a:ext cx="36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20B36-1067-4318-813F-B27049547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15640" y="409680"/>
            <a:ext cx="75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22433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15640" y="1752480"/>
            <a:ext cx="3688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89240" y="1752480"/>
            <a:ext cx="36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989240" y="3902040"/>
            <a:ext cx="36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2E2DD-A598-4F4E-BABD-8420B2113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15640" y="409680"/>
            <a:ext cx="75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22433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15640" y="1752480"/>
            <a:ext cx="36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89240" y="1752480"/>
            <a:ext cx="36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15640" y="3902040"/>
            <a:ext cx="7559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EED6B-963F-4A3E-BE63-7F0B96EEF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de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5"/>
          <p:cNvGrpSpPr/>
          <p:nvPr/>
        </p:nvGrpSpPr>
        <p:grpSpPr>
          <a:xfrm>
            <a:off x="0" y="6095880"/>
            <a:ext cx="9144000" cy="762120"/>
            <a:chOff x="0" y="6095880"/>
            <a:chExt cx="9144000" cy="762120"/>
          </a:xfrm>
        </p:grpSpPr>
        <p:sp>
          <p:nvSpPr>
            <p:cNvPr id="1" name="Rectangle 13"/>
            <p:cNvSpPr/>
            <p:nvPr/>
          </p:nvSpPr>
          <p:spPr>
            <a:xfrm>
              <a:off x="0" y="6324480"/>
              <a:ext cx="9144000" cy="533520"/>
            </a:xfrm>
            <a:prstGeom prst="rect">
              <a:avLst/>
            </a:prstGeom>
            <a:solidFill>
              <a:srgbClr val="8224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14"/>
            <p:cNvSpPr/>
            <p:nvPr/>
          </p:nvSpPr>
          <p:spPr>
            <a:xfrm>
              <a:off x="1219320" y="6095880"/>
              <a:ext cx="7924680" cy="762120"/>
            </a:xfrm>
            <a:prstGeom prst="rect">
              <a:avLst/>
            </a:prstGeom>
            <a:solidFill>
              <a:srgbClr val="8224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115640" y="409680"/>
            <a:ext cx="75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22433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822433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115640" y="1752480"/>
            <a:ext cx="7559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224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6204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98108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981080" indent="-228600">
              <a:spcBef>
                <a:spcPts val="601"/>
              </a:spcBef>
              <a:buClr>
                <a:srgbClr val="8224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981080" indent="-228600">
              <a:spcBef>
                <a:spcPts val="601"/>
              </a:spcBef>
              <a:buClr>
                <a:srgbClr val="8224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343400" y="61466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1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7A5C4-D14A-480E-BCED-A7CCBBD835CB}" type="datetime">
              <a:rPr b="0" lang="it-IT" sz="1100" spc="-1" strike="noStrike">
                <a:solidFill>
                  <a:srgbClr val="ffffff"/>
                </a:solidFill>
                <a:latin typeface="Arial"/>
              </a:rPr>
              <a:t>29/07/26</a:t>
            </a:fld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1218960" y="61466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1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100" spc="-1" strike="noStrike">
                <a:solidFill>
                  <a:srgbClr val="ffffff"/>
                </a:solidFill>
                <a:latin typeface="Arial"/>
              </a:rPr>
              <a:t>Biblioteca Interdipartimentale di Scienze Giuridiche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3080" y="61466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1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100" spc="-1" strike="noStrike">
                <a:solidFill>
                  <a:srgbClr val="ffffff"/>
                </a:solidFill>
                <a:latin typeface="Arial"/>
              </a:rPr>
              <a:t>Pagina </a:t>
            </a:r>
            <a:fld id="{3F135CD5-2B30-4DA5-B4C8-167D3F6D3EED}" type="slidenum">
              <a:rPr b="0" lang="it-IT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jpe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11"/>
          <p:cNvSpPr/>
          <p:nvPr/>
        </p:nvSpPr>
        <p:spPr>
          <a:xfrm>
            <a:off x="0" y="0"/>
            <a:ext cx="9144000" cy="3429000"/>
          </a:xfrm>
          <a:prstGeom prst="rect">
            <a:avLst/>
          </a:prstGeom>
          <a:solidFill>
            <a:srgbClr val="0067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59640" cy="93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Conoscenza ed uso degli strumenti cartacei ed elettronici per la ricerca bibliografica in ambito giuridico ed economico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endParaRPr b="1" lang="en-US" sz="2000" spc="-1" strike="noStrike">
              <a:solidFill>
                <a:srgbClr val="822433"/>
              </a:solidFill>
              <a:latin typeface="Arial"/>
            </a:endParaRPr>
          </a:p>
        </p:txBody>
      </p:sp>
      <p:grpSp>
        <p:nvGrpSpPr>
          <p:cNvPr id="53" name="Group 17"/>
          <p:cNvGrpSpPr/>
          <p:nvPr/>
        </p:nvGrpSpPr>
        <p:grpSpPr>
          <a:xfrm>
            <a:off x="0" y="2759040"/>
            <a:ext cx="9143640" cy="4098960"/>
            <a:chOff x="0" y="2759040"/>
            <a:chExt cx="9143640" cy="4098960"/>
          </a:xfrm>
        </p:grpSpPr>
        <p:pic>
          <p:nvPicPr>
            <p:cNvPr id="54" name="Picture 15" descr="Fondino"/>
            <p:cNvPicPr/>
            <p:nvPr/>
          </p:nvPicPr>
          <p:blipFill>
            <a:blip r:embed="rId1"/>
            <a:stretch/>
          </p:blipFill>
          <p:spPr>
            <a:xfrm>
              <a:off x="0" y="3425760"/>
              <a:ext cx="9142560" cy="343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Picture 13" descr="logo +marchio"/>
            <p:cNvPicPr/>
            <p:nvPr/>
          </p:nvPicPr>
          <p:blipFill>
            <a:blip r:embed="rId2"/>
            <a:stretch/>
          </p:blipFill>
          <p:spPr>
            <a:xfrm>
              <a:off x="107640" y="4265640"/>
              <a:ext cx="9036000" cy="114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Picture 16" descr="fascia"/>
            <p:cNvPicPr/>
            <p:nvPr/>
          </p:nvPicPr>
          <p:blipFill>
            <a:blip r:embed="rId3"/>
            <a:stretch/>
          </p:blipFill>
          <p:spPr>
            <a:xfrm>
              <a:off x="2088720" y="2759040"/>
              <a:ext cx="7053480" cy="669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" name="Segnaposto data 10"/>
          <p:cNvSpPr/>
          <p:nvPr/>
        </p:nvSpPr>
        <p:spPr>
          <a:xfrm>
            <a:off x="4343400" y="61466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Segnaposto piè di pagina 11"/>
          <p:cNvSpPr/>
          <p:nvPr/>
        </p:nvSpPr>
        <p:spPr>
          <a:xfrm>
            <a:off x="1219320" y="61466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Rettangolo 1"/>
          <p:cNvSpPr/>
          <p:nvPr/>
        </p:nvSpPr>
        <p:spPr>
          <a:xfrm>
            <a:off x="2116080" y="3500280"/>
            <a:ext cx="21970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f2f2f2"/>
                </a:solidFill>
                <a:latin typeface="Arial"/>
                <a:ea typeface="Times New Roman"/>
              </a:rPr>
              <a:t>   </a:t>
            </a:r>
            <a:r>
              <a:rPr b="0" lang="it-IT" sz="1000" spc="-1" strike="noStrike">
                <a:solidFill>
                  <a:srgbClr val="f2f2f2"/>
                </a:solidFill>
                <a:latin typeface="Arial"/>
                <a:ea typeface="Times New Roman"/>
              </a:rPr>
              <a:t>FACOLTÀ DI GIURISPRUDENZ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Rettangolo 2"/>
          <p:cNvSpPr/>
          <p:nvPr/>
        </p:nvSpPr>
        <p:spPr>
          <a:xfrm>
            <a:off x="2268360" y="4478400"/>
            <a:ext cx="3343320" cy="11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f2f2f2"/>
                </a:solidFill>
                <a:latin typeface="Arial"/>
                <a:ea typeface="Times New Roman"/>
              </a:rPr>
              <a:t>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Rettangolo 4"/>
          <p:cNvSpPr/>
          <p:nvPr/>
        </p:nvSpPr>
        <p:spPr>
          <a:xfrm>
            <a:off x="5726160" y="1444680"/>
            <a:ext cx="3213000" cy="17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Palatino Linotype"/>
              </a:rPr>
              <a:t>17-18 ottobre 2019 ore 9-12.3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Palatino Linotype"/>
              </a:rPr>
              <a:t>Aula V Facoltà di Giurisprudenz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Palatino Linotype"/>
              </a:rPr>
              <a:t>Iscrizioni on line alla pagina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00"/>
                </a:solidFill>
                <a:latin typeface="Arial"/>
              </a:rPr>
              <a:t>https://goo.gl/forms/IxLpWOk92xjRlhSk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Palatino Linotype"/>
              </a:rPr>
              <a:t>Entro il 15 ottob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Immagine 3" descr=""/>
          <p:cNvPicPr/>
          <p:nvPr/>
        </p:nvPicPr>
        <p:blipFill>
          <a:blip r:embed="rId4"/>
          <a:stretch/>
        </p:blipFill>
        <p:spPr>
          <a:xfrm>
            <a:off x="1147680" y="1716120"/>
            <a:ext cx="4013280" cy="2435040"/>
          </a:xfrm>
          <a:prstGeom prst="rect">
            <a:avLst/>
          </a:prstGeom>
          <a:ln w="0">
            <a:noFill/>
          </a:ln>
        </p:spPr>
      </p:pic>
      <p:pic>
        <p:nvPicPr>
          <p:cNvPr id="63" name="Immagine 14" descr=""/>
          <p:cNvPicPr/>
          <p:nvPr/>
        </p:nvPicPr>
        <p:blipFill>
          <a:blip r:embed="rId5"/>
          <a:stretch/>
        </p:blipFill>
        <p:spPr>
          <a:xfrm rot="21197400">
            <a:off x="4027320" y="2279160"/>
            <a:ext cx="774720" cy="3495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5" descr=""/>
          <p:cNvPicPr/>
          <p:nvPr/>
        </p:nvPicPr>
        <p:blipFill>
          <a:blip r:embed="rId6"/>
          <a:stretch/>
        </p:blipFill>
        <p:spPr>
          <a:xfrm rot="1700400">
            <a:off x="3695400" y="1898280"/>
            <a:ext cx="457200" cy="3841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8" descr="https://web.uniroma1.it/sbs/sites/default/files/styles/banner/public/banner/EasyBixy500_168.png?itok=sMBbg5P5"/>
          <p:cNvPicPr/>
          <p:nvPr/>
        </p:nvPicPr>
        <p:blipFill>
          <a:blip r:embed="rId7"/>
          <a:stretch/>
        </p:blipFill>
        <p:spPr>
          <a:xfrm rot="2038200">
            <a:off x="1417320" y="1953720"/>
            <a:ext cx="792000" cy="4921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0" descr="Library Logo"/>
          <p:cNvPicPr/>
          <p:nvPr/>
        </p:nvPicPr>
        <p:blipFill>
          <a:blip r:embed="rId8"/>
          <a:stretch/>
        </p:blipFill>
        <p:spPr>
          <a:xfrm rot="19218000">
            <a:off x="1572840" y="2596680"/>
            <a:ext cx="1079640" cy="2239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1" descr=""/>
          <p:cNvPicPr/>
          <p:nvPr/>
        </p:nvPicPr>
        <p:blipFill>
          <a:blip r:embed="rId9"/>
          <a:stretch/>
        </p:blipFill>
        <p:spPr>
          <a:xfrm>
            <a:off x="3998880" y="2971800"/>
            <a:ext cx="933480" cy="2444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3" descr="OPAC SBN - Catalogo del Servizio Bibliotecario Nazionale"/>
          <p:cNvPicPr/>
          <p:nvPr/>
        </p:nvPicPr>
        <p:blipFill>
          <a:blip r:embed="rId10"/>
          <a:stretch/>
        </p:blipFill>
        <p:spPr>
          <a:xfrm rot="916200">
            <a:off x="2970360" y="2398320"/>
            <a:ext cx="863280" cy="4525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5" descr="https://acnpsearch.unibo.it/bundles/uniboacnp/images/acnp_logo-sm.png"/>
          <p:cNvPicPr/>
          <p:nvPr/>
        </p:nvPicPr>
        <p:blipFill>
          <a:blip r:embed="rId11"/>
          <a:stretch/>
        </p:blipFill>
        <p:spPr>
          <a:xfrm>
            <a:off x="2351160" y="2930400"/>
            <a:ext cx="647640" cy="250920"/>
          </a:xfrm>
          <a:prstGeom prst="rect">
            <a:avLst/>
          </a:prstGeom>
          <a:ln w="0">
            <a:noFill/>
          </a:ln>
        </p:spPr>
      </p:pic>
      <p:pic>
        <p:nvPicPr>
          <p:cNvPr id="70" name="Immagine 4" descr=""/>
          <p:cNvPicPr/>
          <p:nvPr/>
        </p:nvPicPr>
        <p:blipFill>
          <a:blip r:embed="rId12"/>
          <a:stretch/>
        </p:blipFill>
        <p:spPr>
          <a:xfrm>
            <a:off x="2627280" y="1844640"/>
            <a:ext cx="444600" cy="3128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3" descr="\\SG-SRV-02\USERS$\tiziana.leone\Desktop\information-160948_960_720.png"/>
          <p:cNvPicPr/>
          <p:nvPr/>
        </p:nvPicPr>
        <p:blipFill>
          <a:blip r:embed="rId13"/>
          <a:stretch/>
        </p:blipFill>
        <p:spPr>
          <a:xfrm>
            <a:off x="4186080" y="3735360"/>
            <a:ext cx="1635120" cy="828720"/>
          </a:xfrm>
          <a:prstGeom prst="rect">
            <a:avLst/>
          </a:prstGeom>
          <a:ln w="0">
            <a:noFill/>
          </a:ln>
        </p:spPr>
      </p:pic>
      <p:sp>
        <p:nvSpPr>
          <p:cNvPr id="72" name="Rettangolo 4"/>
          <p:cNvSpPr/>
          <p:nvPr/>
        </p:nvSpPr>
        <p:spPr>
          <a:xfrm>
            <a:off x="4216320" y="3895560"/>
            <a:ext cx="963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ffffff"/>
                </a:solidFill>
                <a:latin typeface="Arial"/>
              </a:rPr>
              <a:t>Chiedi al bibliotecario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CasellaDiTesto 5"/>
          <p:cNvSpPr/>
          <p:nvPr/>
        </p:nvSpPr>
        <p:spPr>
          <a:xfrm>
            <a:off x="6012000" y="3454560"/>
            <a:ext cx="302400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ffffff"/>
                </a:solidFill>
                <a:latin typeface="Arial"/>
              </a:rPr>
              <a:t>Programma completo al link: https://www.giurisprudenza.uniroma1.it/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171360" indent="-17136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171360" indent="-17136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ffffff"/>
                </a:solidFill>
                <a:latin typeface="Arial"/>
              </a:rPr>
              <a:t>Durante il corso sono previste delle esercitazioni, a tal fine i partecipanti sono invitati a portare un proprio dispositivo per effettuare le ricerch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171360" indent="-17136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171360" indent="-17136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ffffff"/>
                </a:solidFill>
                <a:latin typeface="Arial"/>
              </a:rPr>
              <a:t>I partecipanti riceveranno un attestato di frequenz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171360" indent="-17136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171360" indent="-17136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ffffff"/>
                </a:solidFill>
                <a:latin typeface="Arial"/>
              </a:rPr>
              <a:t>I corsi non prevedono l’acquisizione di C.F.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171360" indent="-171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171360" indent="-17136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ffffff"/>
                </a:solidFill>
                <a:latin typeface="Arial"/>
              </a:rPr>
              <a:t>Per informazioni e comunicazioni: bisg@uniroma1.it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171360" indent="-171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CasellaDiTesto 7"/>
          <p:cNvSpPr/>
          <p:nvPr/>
        </p:nvSpPr>
        <p:spPr>
          <a:xfrm>
            <a:off x="2354400" y="5311800"/>
            <a:ext cx="3081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ffffff"/>
                </a:solidFill>
                <a:latin typeface="Arial"/>
                <a:ea typeface="Arial"/>
              </a:rPr>
              <a:t>Biblioteca Interdipartimentale di Scienze Giuridiche (BISG)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0T16:13:10Z</dcterms:created>
  <dc:creator>- -</dc:creator>
  <dc:description/>
  <dc:language>en-US</dc:language>
  <cp:lastModifiedBy>Tiziana Leone</cp:lastModifiedBy>
  <dcterms:modified xsi:type="dcterms:W3CDTF">2019-09-12T13:19:08Z</dcterms:modified>
  <cp:revision>154</cp:revision>
  <dc:subject/>
  <dc:title>Presentazione di PowerPoint</dc:title>
</cp:coreProperties>
</file>